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E72D-1632-487A-BC48-9C3526FE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7391-E424-4BA3-B5B3-D8509B15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7854-B3EC-4F63-B5BB-0926B243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47DE-4CCF-408A-9DA4-50FA122D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8899-DE05-43EB-B4C4-721786B4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7FBD-A9B8-4A4C-8799-1C7AE806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17FD-5079-4C29-ABA8-B5936DFD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A85F-B369-48A8-B733-69DE1C99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222A-56D1-4F21-8D19-1DF96D83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8477-DAAD-4C2A-9BDC-F1D4C32B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1C51-4260-4F77-A22C-54E7A69E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0D96A-6BA5-400D-84DD-D731726A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B819-343F-4890-85DB-58D356E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F0A9-8B46-4EDE-B7CF-02BBECF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C7A8-B502-41B0-BC13-17E5CE58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0078-FB15-45CC-9461-E5DD359C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FD25-5061-4B78-A1DE-F7119692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A508-A534-4B97-AB8F-77FCDCCB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D687-5EE8-4B84-A284-13B43CC5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D7D2-9A1B-4794-B264-3051FB52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3268-A1E0-452C-8029-EDCE5588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2714D-1B62-4247-99E6-18C2C47D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A0E50-BA66-4E71-98EA-7DCDE8B6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7A21-7C68-4B69-AF4E-83C495EE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7E96-8D94-4506-A58A-9EF110887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D245-C8DA-49B4-B64D-A3EC82EDC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00007d"/>
                </a:solidFill>
                <a:uFillTx/>
                <a:latin typeface="Arial"/>
              </a:rPr>
              <a:t>Тема урок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ачните работу с нажатия кнопки Пу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95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8800" y="4568760"/>
            <a:ext cx="372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 информатике и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5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800080"/>
                </a:solidFill>
                <a:uFillTx/>
                <a:latin typeface="Arial"/>
              </a:rPr>
              <a:t>Соста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ул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ГБОУ СОШ № 2031,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Практическая работа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«Запуск стандартных программ из </a:t>
            </a:r>
            <a:br>
              <a:rPr sz="3200"/>
            </a:b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Главного мен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Запустите программу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тобы запустить стандартную 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ведите указатель мыши на кнопку Пуск на Панели задач и щелкните левой кноп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мыши к пункту Программы – откроется вложенное меню с перечнем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ведите указатель к пункту Стандартные – появится вновь вложенное меню с перечнем стандартных , часто используемых пр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ужную программу Блокнот, и выберите ее щелчком левой кнопк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ус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791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андар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791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2E27-E77E-4985-985B-8C9C1921994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. Запустите стандартную программу Калькулято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11430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295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14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129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1143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Блокн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676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. Завершение работы с програм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Кальк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ершить работу программы Блокн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явлении окна сохранения документа, нажмите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518148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7F27-FCE1-40C7-AC84-25ECB50DDE8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Итоги урока и Д/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акую тему рассматрив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нового вы 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Что вам больше всег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/З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5 и определения вы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23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E9CF-E7DB-441A-8162-2F071E53A9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10120" y="3200400"/>
            <a:ext cx="3233880" cy="28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с назначением и функциями Главного мен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оить запуск программ через Главное мен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E582-E19C-4A2B-A690-D379226D20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9360" y="19807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 урока и д/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354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0555-CA95-46C9-BBAE-02569C5217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619520" cy="3067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Повто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бочий ст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Рабочем сто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ходится на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анели зада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е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ы знаете о кнопке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Пус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D888-2892-4FFA-B24F-516CC6ED59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2. Изучение нового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733920" cy="1040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нопка Пуск располагается на Панели задач в левом нижнем уг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004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действия начинаются с нажатия кнопки Пу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8F87-1A8C-4F21-BC71-C46DE98453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46720" y="228600"/>
            <a:ext cx="3797280" cy="5605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Щелкнув по кнопке Пуск откроетс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971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вное ме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657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8620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этого меню можно вызвать различные программы. При помощи программ создаются документы: тексты, рисунки,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ADDC-4ED3-4091-BDC3-6FD704601F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733560" cy="5867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44960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 пункте меню справа расположен значок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 этот пункт является заголовком еще одного ме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87240" cy="718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2971800" y="2514600"/>
            <a:ext cx="5562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0481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124080"/>
            <a:ext cx="3962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3200400"/>
            <a:ext cx="4267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8923-4000-4BB9-BF5B-F2C82B838C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77320" cy="4408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содержимое появляется при выделении этого пункта. Такие меню называют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вложенны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скрытым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Глав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371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Вложенное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8954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343040" y="1752480"/>
            <a:ext cx="2514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9343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93B33-5572-46BC-9BE2-86DF1C92C6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174920" cy="6095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04920" y="159984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того, кнопка Пуск позволяет грамотно завершить работу на компьютере, выбрав команд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вершение рабо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Автор: учитель информатики и ИКТ Пулова Светлана Анатольевна, ГБОУ СОШ № 2031, г.Моск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A7BC-9F5D-4969-BAC8-6C6639D27F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3.04.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</cp:lastModifiedBy>
  <dcterms:modified xsi:type="dcterms:W3CDTF">2012-04-13T07:39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